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B08-64FD-4837-8799-ED0DA9FF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EF0-073E-4945-9493-8718CA36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DC6-C1E4-48B5-BA2B-ED2942F9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08F-E2EE-4F8E-8E3E-2CDF1156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55E-A573-413B-8D8F-79DEDCC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78F-3169-4D0B-81B8-0133AB60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045-EFDB-43E2-95FD-2F52F5FB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9BB-C831-43A4-B8AE-304DABE5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33C-6997-4F8A-BFB1-C7CEF06B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B22-F2A4-4B6A-B231-DE6E68BA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00E-F79A-4C33-81D5-0C85E7A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2BB-4AFB-4978-B458-CA2C65F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2F9-3CA3-4097-BDC4-2830A126E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psico.com/images/content_brand_gatorade_block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celebritydietdoctor.com/wp-content/uploads/2007/08/gatorade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5253120"/>
            <a:ext cx="2590920" cy="1620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howcard Gothic"/>
              </a:rPr>
              <a:t>Jessica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howcard Gothic"/>
              </a:rPr>
              <a:t>12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howcard Gothic"/>
              </a:rPr>
              <a:t>Per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howcard Gothic"/>
              </a:rPr>
              <a:t>Computer #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152280"/>
            <a:ext cx="71629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03920"/>
            <a:ext cx="5867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Free Play Music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Eras Bold ITC"/>
              </a:rPr>
              <a:t>Preview File,</a:t>
            </a: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 12/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Eras Bold ITC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4648320"/>
            <a:ext cx="761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46483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Invented by: Robert 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4724280"/>
            <a:ext cx="3581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ras Bold ITC"/>
                <a:hlinkClick r:id="rId1"/>
              </a:rPr>
              <a:t>http://www.pepsico.com/images/content_brand_gatorade_block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Eras Bold ITC"/>
              </a:rPr>
              <a:t> PESPICO 12/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gatorade.jpg"/>
          <p:cNvPicPr/>
          <p:nvPr/>
        </p:nvPicPr>
        <p:blipFill>
          <a:blip r:embed="rId2"/>
          <a:stretch/>
        </p:blipFill>
        <p:spPr>
          <a:xfrm>
            <a:off x="0" y="0"/>
            <a:ext cx="5334120" cy="456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48769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0"/>
            <a:ext cx="49528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ras Bold ITC"/>
                <a:hlinkClick r:id="rId3"/>
              </a:rPr>
              <a:t>http://www.celebritydietdoctor.com/wp-content/uploads/2007/08/gatorade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Eras Bold ITC"/>
              </a:rPr>
              <a:t> Diet Gatorade 12/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617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Bold ITC"/>
              </a:rPr>
              <a:t>*Gatorade was an alternative for Juice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66ff33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nven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66ff33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Bernard MT Condensed"/>
              </a:rPr>
              <a:t>There is more then 15 Gatorade flav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Bernard MT Condensed"/>
              </a:rPr>
              <a:t>Gatorade gained instant notoriety and garnered media interest in 19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Bernard MT Condensed"/>
              </a:rPr>
              <a:t>Gatorade became a house hold object when the tradition of pouring a jug of Gatorade on the winning teams coaches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Bernard MT Condensed"/>
              </a:rPr>
              <a:t>Gatorade was as well on its way to world wide sales as PESPI Co. in 20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ventor: Robert Ca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was born in 19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lived in Flo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was trained at the university of Texas medical school in Dallas as an internist and nephrolog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was working as a medical researcher at the university of Florida when a football coach there became frustrated because his players were un able to stay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suggested juice to keep the players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Bernard MT Condensed"/>
              </a:rPr>
              <a:t>Cade has developed products similar to Gatorade such as Go Energy Recovery Shake.</a:t>
            </a:r>
            <a:r>
              <a:rPr b="0" lang="en-US" sz="2800" spc="-1" strike="noStrike">
                <a:solidFill>
                  <a:srgbClr val="66ff33"/>
                </a:solidFill>
                <a:latin typeface="Bernard MT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9T14:51:31Z</dcterms:modified>
  <cp:revision>10</cp:revision>
  <dc:subject/>
  <dc:title>Slide 1</dc:title>
</cp:coreProperties>
</file>